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8.xml.rels" ContentType="application/vnd.openxmlformats-package.relationships+xml"/>
  <Override PartName="/ppt/notesSlides/_rels/notesSlide49.xml.rels" ContentType="application/vnd.openxmlformats-package.relationships+xml"/>
  <Override PartName="/ppt/notesSlides/notesSlide49.xml" ContentType="application/vnd.openxmlformats-officedocument.presentationml.notesSlide+xml"/>
  <Override PartName="/ppt/notesSlides/notesSlide6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661AE-E98D-485A-91E2-6980B6816B5E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42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88C65-BEDC-459A-957F-A618B5C0486E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42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6915E-8875-480D-8A5F-B576912BD9BC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A9F0F3-529A-480A-8DBB-A70099BF127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8D92BF-BAEE-495D-B76F-24753AF60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B147D1-A63F-4FED-9C37-B7F51A391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5C9C01-FD32-4693-8EE9-E7A2FA766D5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D83EC0-9578-4D99-AD2F-D819C2D90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3FBE61-D4CD-444C-AA70-46E502868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203D8A-72A4-41F3-B567-90B0BAED3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BF7CF0-921D-42D6-8162-8F69F63F8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D137C5-446F-48B7-BC29-C05505827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5D18A6-5350-455B-BF72-690F404CA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44707C-4DEB-48A8-B763-FCA1BB745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F25030-1FFC-490C-8BBE-261C26C98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338F1-6564-4458-81A3-E21F29E8D1E4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hyperlink" Target="app:ds:nitrogen%20balance" TargetMode="External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71.xml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71.xml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4000" y="2205000"/>
            <a:ext cx="4572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八章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消化系统功能监护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02920" y="5373720"/>
            <a:ext cx="632484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华北理工大学护理与康复学院   景丽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1979280" y="184464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ac8de"/>
                </a:solidFill>
                <a:latin typeface="Verdana"/>
              </a:rPr>
              <a:t>腹痛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ac8de"/>
                </a:solidFill>
                <a:latin typeface="Verdana"/>
              </a:rPr>
              <a:t>腹胀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ac8de"/>
                </a:solidFill>
                <a:latin typeface="Verdana"/>
              </a:rPr>
              <a:t>呕吐与便血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303FF-C243-4793-845F-B7BB849E23D9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8AF12-6D22-4303-95C9-15FF6DF9036B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4e0ec"/>
                </a:solidFill>
                <a:latin typeface="Verdana"/>
              </a:rPr>
              <a:t>腹痛的类型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6840" y="1600200"/>
            <a:ext cx="8002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4e0ec"/>
                </a:solidFill>
                <a:latin typeface="Verdana"/>
              </a:rPr>
              <a:t>内脏性疼痛：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痛感弥散，定位不准确；疼痛过程缓慢、持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4e0ec"/>
                </a:solidFill>
                <a:latin typeface="Verdana"/>
              </a:rPr>
              <a:t>躯体性疼痛：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能准确反映病变刺激的部位，常引起肌紧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4e0ec"/>
                </a:solidFill>
                <a:latin typeface="Verdana"/>
              </a:rPr>
              <a:t>牵涉性疼痛：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某个内脏病变所产生的痛觉信号，被定位于远离该内脏的身体其他部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9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28D81-240B-410C-A7EB-F17362AFDCB5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B3EFB-6B01-4E6D-8256-7E899DB2B914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b0f0"/>
                </a:solidFill>
                <a:latin typeface="Verdana"/>
              </a:rPr>
              <a:t>腹痛的观察要点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1599840"/>
            <a:ext cx="79725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疼痛的部位、起始情况、程度、性质、时间 、与饮食的关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持续性、渐进性或是间歇发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症状加重和缓解的因素及规律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伴随症状：发热、呕吐、排便的改变、腹胀、腹膜刺激征、皮肤与巩膜黄染。休克、神经精神症状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0E701-384B-4ADE-AD1A-CC63CA20FEF6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BE79B-A83A-4480-93C8-E511C99BD1D8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b0f0"/>
                </a:solidFill>
                <a:latin typeface="Verdana"/>
              </a:rPr>
              <a:t>病因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000"/>
                </a:solidFill>
                <a:latin typeface="Verdana"/>
              </a:rPr>
              <a:t>功能紊乱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：查不到形态学的改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000"/>
                </a:solidFill>
                <a:latin typeface="Verdana"/>
              </a:rPr>
              <a:t>感染性疾病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：细菌感染或化学刺激引起的病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000"/>
                </a:solidFill>
                <a:latin typeface="Verdana"/>
              </a:rPr>
              <a:t>出血性疾病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：主要是血管破裂引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000"/>
                </a:solidFill>
                <a:latin typeface="Verdana"/>
              </a:rPr>
              <a:t>缺血性疾病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：供血失常造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000"/>
                </a:solidFill>
                <a:latin typeface="Verdana"/>
              </a:rPr>
              <a:t>梗阻性疾病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：空腔脏器及管道系统的通过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000"/>
                </a:solidFill>
                <a:latin typeface="Verdana"/>
              </a:rPr>
              <a:t>穿孔性疾病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：空腔脏器穿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4B3C5-1341-48C6-95EE-7C73134EFB8F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ABCDB-474D-4078-9593-F4556103A969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穿孔性病变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56840" y="1600200"/>
            <a:ext cx="785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常见：胃十二指肠穿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突发性上腹部刀割样疼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舟状腹，迅速出现腹膜刺激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移动性浊音、有气腹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肠鸣音消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诊断性腹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1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773E6-2282-4CE4-9AE3-4082E0D38863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CAFE8-1798-4747-B370-F53B6002E29D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炎症性病变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常见：急性胆囊炎、胆管炎、胰腺炎、阑尾炎、胃肠炎、盆腔炎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有体温升高，血白细胞及中性粒细胞增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腹痛由轻到重，呈持续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有固定压痛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可伴有腹膜刺激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5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4C6A0-1BC8-4F33-99E3-299F85C99CE2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B4F2E-AA38-43F8-A668-AB95E37B3137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出血性病变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56840" y="1600200"/>
            <a:ext cx="8002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常见：肝脾破裂、腹主动脉瘤破裂、溃疡出血、食管胃底静脉曲张破裂、异位妊娠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多有外伤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以失血性表现为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可有不同程度的腹膜刺激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移动性浊音：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&gt;500m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积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腹腔穿刺：不凝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9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98F5A-2F6F-417D-BB74-0130E5CD5E3E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EE98B-6786-46D5-97E7-8B4EA7505B63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000"/>
                </a:solidFill>
                <a:latin typeface="Verdana"/>
              </a:rPr>
              <a:t>失血性周围循环衰竭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心率增快、血压降低、脉压减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晕厥、口干、烦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尿量减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冷汗、面色苍白、皮肤湿冷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3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C18A4-4A79-4BAD-9A20-350958DE914E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AA5B7-52B8-496F-B16B-659FEC0922F4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5" name="爆炸形 2 5"/>
          <p:cNvSpPr/>
          <p:nvPr/>
        </p:nvSpPr>
        <p:spPr>
          <a:xfrm rot="20559000">
            <a:off x="3624120" y="4916160"/>
            <a:ext cx="5472360" cy="1152360"/>
          </a:xfrm>
          <a:prstGeom prst="irregularSeal2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5c8c"/>
                </a:solidFill>
                <a:latin typeface="Verdana"/>
              </a:rPr>
              <a:t>液体好难打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梗阻性病变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常见：肠梗阻、肠套叠、结石、胆道梗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起病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阵发性绞痛为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初期多无腹膜刺激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伴随症状：呕吐，大便，黄疸，血尿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48BA3-D0D0-4AAA-80AC-452DFC2E27F1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00000-B79C-477E-AE03-8CFFE89C8096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缺血性病变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6840" y="1600200"/>
            <a:ext cx="793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常见：肠扭转、肠系膜动脉栓塞、绞窄性疝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病情发展迅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呈持续性腹痛阵发性加剧或持续剧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易出现腹膜刺激征或休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2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9830D-CDDD-46AC-9C5F-E9B472DA96ED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F8184-DFDE-43A8-A20C-0A31C3632A78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14" name="Group 4"/>
          <p:cNvGrpSpPr/>
          <p:nvPr/>
        </p:nvGrpSpPr>
        <p:grpSpPr>
          <a:xfrm>
            <a:off x="1692360" y="2708280"/>
            <a:ext cx="688680" cy="593640"/>
            <a:chOff x="1692360" y="2708280"/>
            <a:chExt cx="688680" cy="593640"/>
          </a:xfrm>
        </p:grpSpPr>
        <p:sp>
          <p:nvSpPr>
            <p:cNvPr id="115" name="AutoShape 5"/>
            <p:cNvSpPr/>
            <p:nvPr/>
          </p:nvSpPr>
          <p:spPr>
            <a:xfrm>
              <a:off x="1697760" y="2718360"/>
              <a:ext cx="683280" cy="583560"/>
            </a:xfrm>
            <a:prstGeom prst="hexagon">
              <a:avLst>
                <a:gd name="adj" fmla="val 29272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6" name="AutoShape 6"/>
            <p:cNvSpPr/>
            <p:nvPr/>
          </p:nvSpPr>
          <p:spPr>
            <a:xfrm>
              <a:off x="1692360" y="2708280"/>
              <a:ext cx="683280" cy="583560"/>
            </a:xfrm>
            <a:prstGeom prst="hexagon">
              <a:avLst>
                <a:gd name="adj" fmla="val 29272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7"/>
            <p:cNvSpPr/>
            <p:nvPr/>
          </p:nvSpPr>
          <p:spPr>
            <a:xfrm>
              <a:off x="1732320" y="2743200"/>
              <a:ext cx="600480" cy="513360"/>
            </a:xfrm>
            <a:prstGeom prst="hexagon">
              <a:avLst>
                <a:gd name="adj" fmla="val 29243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8" name="Text Box 8"/>
          <p:cNvSpPr/>
          <p:nvPr/>
        </p:nvSpPr>
        <p:spPr>
          <a:xfrm>
            <a:off x="1864080" y="276552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AutoShape 9"/>
          <p:cNvSpPr/>
          <p:nvPr/>
        </p:nvSpPr>
        <p:spPr>
          <a:xfrm>
            <a:off x="1692360" y="3470400"/>
            <a:ext cx="687240" cy="593640"/>
          </a:xfrm>
          <a:prstGeom prst="hexagon">
            <a:avLst>
              <a:gd name="adj" fmla="val 28942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 Box 10"/>
          <p:cNvSpPr/>
          <p:nvPr/>
        </p:nvSpPr>
        <p:spPr>
          <a:xfrm>
            <a:off x="1827360" y="355284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21" name="Group 11"/>
          <p:cNvGrpSpPr/>
          <p:nvPr/>
        </p:nvGrpSpPr>
        <p:grpSpPr>
          <a:xfrm>
            <a:off x="1676520" y="4238640"/>
            <a:ext cx="686880" cy="593640"/>
            <a:chOff x="1676520" y="4238640"/>
            <a:chExt cx="686880" cy="593640"/>
          </a:xfrm>
        </p:grpSpPr>
        <p:sp>
          <p:nvSpPr>
            <p:cNvPr id="122" name="AutoShape 12"/>
            <p:cNvSpPr/>
            <p:nvPr/>
          </p:nvSpPr>
          <p:spPr>
            <a:xfrm>
              <a:off x="1681920" y="4248720"/>
              <a:ext cx="681480" cy="583560"/>
            </a:xfrm>
            <a:prstGeom prst="hexagon">
              <a:avLst>
                <a:gd name="adj" fmla="val 29195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3" name="AutoShape 13"/>
            <p:cNvSpPr/>
            <p:nvPr/>
          </p:nvSpPr>
          <p:spPr>
            <a:xfrm>
              <a:off x="1676520" y="4238640"/>
              <a:ext cx="681480" cy="583560"/>
            </a:xfrm>
            <a:prstGeom prst="hexagon">
              <a:avLst>
                <a:gd name="adj" fmla="val 29195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4" name="AutoShape 14"/>
            <p:cNvSpPr/>
            <p:nvPr/>
          </p:nvSpPr>
          <p:spPr>
            <a:xfrm>
              <a:off x="1716480" y="4273560"/>
              <a:ext cx="599040" cy="513360"/>
            </a:xfrm>
            <a:prstGeom prst="hexagon">
              <a:avLst>
                <a:gd name="adj" fmla="val 29173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25" name="Text Box 15"/>
          <p:cNvSpPr/>
          <p:nvPr/>
        </p:nvSpPr>
        <p:spPr>
          <a:xfrm>
            <a:off x="1844640" y="431496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Line 18"/>
          <p:cNvSpPr/>
          <p:nvPr/>
        </p:nvSpPr>
        <p:spPr>
          <a:xfrm>
            <a:off x="2428920" y="32702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Line 19"/>
          <p:cNvSpPr/>
          <p:nvPr/>
        </p:nvSpPr>
        <p:spPr>
          <a:xfrm>
            <a:off x="2428920" y="40622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Line 20"/>
          <p:cNvSpPr/>
          <p:nvPr/>
        </p:nvSpPr>
        <p:spPr>
          <a:xfrm>
            <a:off x="2428920" y="485460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矩形 21"/>
          <p:cNvSpPr/>
          <p:nvPr/>
        </p:nvSpPr>
        <p:spPr>
          <a:xfrm>
            <a:off x="2428920" y="2406600"/>
            <a:ext cx="5213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1360" indent="-71136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第一节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消化系统应用生理（自学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矩形 22"/>
          <p:cNvSpPr/>
          <p:nvPr/>
        </p:nvSpPr>
        <p:spPr>
          <a:xfrm>
            <a:off x="2500200" y="3559320"/>
            <a:ext cx="370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第二节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临床监护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矩形 23"/>
          <p:cNvSpPr/>
          <p:nvPr/>
        </p:nvSpPr>
        <p:spPr>
          <a:xfrm>
            <a:off x="2484360" y="4076640"/>
            <a:ext cx="574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1360" indent="-71136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第三节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急性重症胰腺炎患者的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b0f0"/>
                </a:solidFill>
                <a:latin typeface="Verdana"/>
              </a:rPr>
              <a:t>急性腹痛的判断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000"/>
                </a:solidFill>
                <a:latin typeface="Verdana"/>
              </a:rPr>
              <a:t>外科性急腹症：</a:t>
            </a:r>
            <a:r>
              <a:rPr b="1" lang="zh-CN" sz="2800" spc="-1" strike="noStrike">
                <a:solidFill>
                  <a:srgbClr val="99669b"/>
                </a:solidFill>
                <a:latin typeface="Verdana"/>
              </a:rPr>
              <a:t>先腹痛，后有发热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等伴随症状。腹痛或压痛部位比较固定，程度重。可伴腹膜刺激征</a:t>
            </a:r>
            <a:r>
              <a:rPr b="1" lang="zh-CN" sz="2800" spc="-1" strike="noStrike">
                <a:solidFill>
                  <a:srgbClr val="ffc000"/>
                </a:solidFill>
                <a:latin typeface="Verdana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000"/>
                </a:solidFill>
                <a:latin typeface="Verdana"/>
              </a:rPr>
              <a:t>内科性急腹症：</a:t>
            </a:r>
            <a:r>
              <a:rPr b="1" lang="zh-CN" sz="2800" spc="-1" strike="noStrike">
                <a:solidFill>
                  <a:srgbClr val="99669b"/>
                </a:solidFill>
                <a:latin typeface="Verdana"/>
              </a:rPr>
              <a:t>先热后痛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，腹痛多无固定部位，程度轻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急性胃肠炎、心肌梗死、腹型过敏性紫癜、大叶性肺炎。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黑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6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A0B76-6E65-4178-B8DC-F5172C9789CC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A8900-F735-4BEF-A7F8-E415BD6903E5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979280" y="184464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ac8de"/>
                </a:solidFill>
                <a:latin typeface="Verdana"/>
              </a:rPr>
              <a:t>腹痛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ac8de"/>
                </a:solidFill>
                <a:latin typeface="Verdana"/>
              </a:rPr>
              <a:t>腹胀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ac8de"/>
                </a:solidFill>
                <a:latin typeface="Verdana"/>
              </a:rPr>
              <a:t>呕吐与便血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0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AC9C2-809F-4DB9-B986-33651FCE0AFF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8E113-5E05-4BC0-B6DE-920C976F2465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b0f0"/>
                </a:solidFill>
                <a:latin typeface="Verdana"/>
              </a:rPr>
              <a:t>腹胀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2771640" y="1628640"/>
            <a:ext cx="746784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主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腹部膨隆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测腹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腹压的测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4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1C909-82D8-4606-8BA3-B8030AC5D016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7A8C7-F64F-4C70-9261-D53293EFC703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方正舒体"/>
                <a:ea typeface="方正舒体"/>
              </a:rPr>
              <a:t>腹腔内压测定：经导尿管膀胱测压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平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以耻骨联合作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排空膀胱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通过导尿管向膀胱内滴入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00m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生理盐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测得平衡时水柱的高度即为腹腔内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8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1D0E2-4731-4D13-84B6-3A2497E9CF81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0646E-F8C9-406F-B3D5-7A8C578B3106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方正舒体"/>
                <a:ea typeface="方正舒体"/>
              </a:rPr>
              <a:t>腹腔间室综合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一般来讲，腹腔内压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intra—abdominal pressur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IAP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增加到</a:t>
            </a:r>
            <a:r>
              <a:rPr b="1" lang="en-US" sz="2800" spc="-1" strike="noStrike">
                <a:solidFill>
                  <a:srgbClr val="8a5c8c"/>
                </a:solidFill>
                <a:latin typeface="Verdana"/>
              </a:rPr>
              <a:t>&gt;25 cmH</a:t>
            </a:r>
            <a:r>
              <a:rPr b="1" lang="en-US" sz="2800" spc="-1" strike="noStrike" baseline="-25000">
                <a:solidFill>
                  <a:srgbClr val="8a5c8c"/>
                </a:solidFill>
                <a:latin typeface="Verdana"/>
              </a:rPr>
              <a:t>2</a:t>
            </a:r>
            <a:r>
              <a:rPr b="1" lang="en-US" sz="2800" spc="-1" strike="noStrike">
                <a:solidFill>
                  <a:srgbClr val="8a5c8c"/>
                </a:solidFill>
                <a:latin typeface="Verdana"/>
              </a:rPr>
              <a:t>O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时，就会引发脏器功能障碍，出现腹腔间隔室综合征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abdominal compartment syndrom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ACS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ACS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指继发于腹内压急剧升高的脏器功能不全。主要表现为恶心、呕吐、腹胀、呼吸困难、肠鸣音减弱或消失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2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EA8E5-E1D6-436C-97D9-34C5277AB7D6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0A411-CE50-47DE-BE22-7930DAF2A672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1979280" y="184464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ac8de"/>
                </a:solidFill>
                <a:latin typeface="Verdana"/>
              </a:rPr>
              <a:t>腹痛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ac8de"/>
                </a:solidFill>
                <a:latin typeface="Verdana"/>
              </a:rPr>
              <a:t>腹胀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ac8de"/>
                </a:solidFill>
                <a:latin typeface="Verdana"/>
              </a:rPr>
              <a:t>呕吐与便血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6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73743-0413-4C44-8FBF-5D36426A7E03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DDB3C-E802-478C-BE72-CAD142601ACB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b0f0"/>
                </a:solidFill>
                <a:latin typeface="Verdana"/>
                <a:ea typeface="宋体"/>
              </a:rPr>
              <a:t>呕吐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观察与记录呕吐次数与量、呕吐物性质、气味、颜色、有无隔宿食物。必要时留取标本送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胃内积血量达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黑体"/>
              </a:rPr>
              <a:t>25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黑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黑体"/>
              </a:rPr>
              <a:t>300m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时可引起呕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0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297C8-8B29-4F90-90B0-899019FBF446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80266-9C72-4478-9617-6A3095395DF8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留置胃管者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引流液的量与性状、气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胃管是否固定妥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通畅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胃肠减压负压是否有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4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9AF41-3979-421E-87F6-3718ED5DC6C5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6B5F6-343D-4BD4-9868-221E636648F3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6" name="云形标注 5"/>
          <p:cNvSpPr/>
          <p:nvPr/>
        </p:nvSpPr>
        <p:spPr>
          <a:xfrm>
            <a:off x="2448000" y="5057640"/>
            <a:ext cx="6696000" cy="180036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5c8c"/>
                </a:solidFill>
                <a:latin typeface="Verdana"/>
              </a:rPr>
              <a:t>“</a:t>
            </a:r>
            <a:r>
              <a:rPr b="0" lang="zh-CN" sz="3200" spc="-1" strike="noStrike">
                <a:solidFill>
                  <a:srgbClr val="8a5c8c"/>
                </a:solidFill>
                <a:latin typeface="方正舒体"/>
                <a:ea typeface="方正舒体"/>
              </a:rPr>
              <a:t>引流出黄绿色胃液”？吐啦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b0f0"/>
                </a:solidFill>
                <a:latin typeface="Verdana"/>
                <a:ea typeface="宋体"/>
              </a:rPr>
              <a:t>便血的观察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排便的次数与量、粪便性质、颜色、气味、有无里急后重表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大便隐血实验阳性提示每日出血量大于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黑体"/>
              </a:rPr>
              <a:t>5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黑体"/>
              </a:rPr>
              <a:t>10m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出现黑便表明出血量在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黑体"/>
              </a:rPr>
              <a:t>50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黑体"/>
              </a:rPr>
              <a:t>70m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以上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9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8DCBA-A3D3-4A9D-B47E-BA87BFED52BB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8A529-63D1-449F-BC1A-1041E363183E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监测出血征象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记录呕血、黑便和便血的频度、颜色、性质、次数和总量，定期复查红细胞计数、血红蛋白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Hct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与血尿素氮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生命体征和循环状况：监测意识状态、脉搏和血压、肢体温度、皮肤和甲床色泽、周围静脉特别是颈静脉充盈情况、尿量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3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2D1C0-5CAF-456E-B497-CC4F520A5C4B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4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293B7-CF47-44F3-A853-FB74BB3B9A39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33520" y="1196640"/>
            <a:ext cx="72072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识记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．描述消化系统常见临床症状、体征及评估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．描述急性重症胰腺炎疾病的临床表现和分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理解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．解释肝功能监测内容及临床意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．解释营养状态评估的方法和意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．比较不同营养支持方式的实施方法及适用范围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．描述急性重症胰腺炎的诊断和治疗要点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运用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．评估消化系统疾病患者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．评估重症胰腺炎患者并为其制订护理计划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AFBF6-A75B-425B-BCA2-983809604D1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活动性出血的判断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9640" y="898560"/>
            <a:ext cx="7467840" cy="59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675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8ac8de"/>
                </a:solidFill>
                <a:latin typeface="Verdana"/>
                <a:ea typeface="宋体"/>
              </a:rPr>
              <a:t>呕血或黑便次数增多、颜色变鲜红。</a:t>
            </a:r>
            <a:endParaRPr b="1" lang="en-US" sz="27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75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8ac8de"/>
                </a:solidFill>
                <a:latin typeface="Verdana"/>
                <a:ea typeface="宋体"/>
              </a:rPr>
              <a:t>胃管抽出物有较多鲜血；</a:t>
            </a:r>
            <a:endParaRPr b="1" lang="en-US" sz="27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75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8ac8de"/>
                </a:solidFill>
                <a:latin typeface="Verdana"/>
                <a:ea typeface="宋体"/>
              </a:rPr>
              <a:t>经快速输液输血，周围循环衰竭的表现未见明显改善，或虽暂时好转而又恶化，中心静脉压仍有波动，稍稳定又再下降；</a:t>
            </a:r>
            <a:endParaRPr b="1" lang="en-US" sz="27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75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8ac8de"/>
                </a:solidFill>
                <a:latin typeface="Verdana"/>
                <a:ea typeface="宋体"/>
              </a:rPr>
              <a:t>红细胞计数、血红蛋白测定和</a:t>
            </a:r>
            <a:r>
              <a:rPr b="1" lang="en-US" sz="2700" spc="-1" strike="noStrike">
                <a:solidFill>
                  <a:srgbClr val="8ac8de"/>
                </a:solidFill>
                <a:latin typeface="Verdana"/>
              </a:rPr>
              <a:t>Hct</a:t>
            </a:r>
            <a:r>
              <a:rPr b="1" lang="zh-CN" sz="2700" spc="-1" strike="noStrike">
                <a:solidFill>
                  <a:srgbClr val="8ac8de"/>
                </a:solidFill>
                <a:latin typeface="Verdana"/>
                <a:ea typeface="宋体"/>
              </a:rPr>
              <a:t>继续下降，网织红细胞计数持续增高；</a:t>
            </a:r>
            <a:endParaRPr b="1" lang="en-US" sz="27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75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8ac8de"/>
                </a:solidFill>
                <a:latin typeface="Verdana"/>
                <a:ea typeface="宋体"/>
              </a:rPr>
              <a:t>补液和尿量足够的情况下，血尿素氮持续或再次增高；</a:t>
            </a:r>
            <a:endParaRPr b="1" lang="en-US" sz="27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ddb523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7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F02A9-939E-4F51-88CB-E0C6EBFC31B4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8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5D4C4-0621-4EE1-975F-5F18F56CE6DC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b0f0"/>
                </a:solidFill>
                <a:latin typeface="Verdana"/>
              </a:rPr>
              <a:t>消化系统常见护理问题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1600200"/>
            <a:ext cx="8075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000"/>
                </a:solidFill>
                <a:latin typeface="Verdana"/>
              </a:rPr>
              <a:t>疼痛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：与腹腔内器官炎症、出血、损伤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000"/>
                </a:solidFill>
                <a:latin typeface="Verdana"/>
              </a:rPr>
              <a:t>体液不足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：腹腔内液体渗出、呕吐或禁食等所致的液体丢失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000"/>
                </a:solidFill>
                <a:latin typeface="Verdana"/>
              </a:rPr>
              <a:t>营养失调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：与减少进食量及异常消化功能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000"/>
                </a:solidFill>
                <a:latin typeface="Verdana"/>
              </a:rPr>
              <a:t>恐惧</a:t>
            </a:r>
            <a:r>
              <a:rPr b="1" lang="en-US" sz="2800" spc="-1" strike="noStrike">
                <a:solidFill>
                  <a:srgbClr val="ffc000"/>
                </a:solidFill>
                <a:latin typeface="Verdana"/>
              </a:rPr>
              <a:t>/</a:t>
            </a:r>
            <a:r>
              <a:rPr b="1" lang="zh-CN" sz="2800" spc="-1" strike="noStrike">
                <a:solidFill>
                  <a:srgbClr val="ffc000"/>
                </a:solidFill>
                <a:latin typeface="Verdana"/>
              </a:rPr>
              <a:t>焦虑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：与腹痛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1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9018F-9D1D-484D-BC3F-A7A56E238758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2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B48BE-066A-4CED-BF0D-1ED1E07E7E6D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b0f0"/>
                </a:solidFill>
                <a:latin typeface="Verdana"/>
              </a:rPr>
              <a:t>急性腹痛未明确诊断前：</a:t>
            </a:r>
            <a:r>
              <a:rPr b="1" lang="zh-CN" sz="3200" spc="-1" strike="noStrike">
                <a:solidFill>
                  <a:srgbClr val="ffc000"/>
                </a:solidFill>
                <a:latin typeface="Verdana"/>
              </a:rPr>
              <a:t>五禁四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611280" y="1628640"/>
            <a:ext cx="4039920" cy="394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ac8de"/>
                </a:solidFill>
                <a:latin typeface="Verdana"/>
              </a:rPr>
              <a:t>禁食、水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ac8de"/>
                </a:solidFill>
                <a:latin typeface="Verdana"/>
              </a:rPr>
              <a:t>禁用止痛剂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ac8de"/>
                </a:solidFill>
                <a:latin typeface="Verdana"/>
              </a:rPr>
              <a:t>禁用热敷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ac8de"/>
                </a:solidFill>
                <a:latin typeface="Verdana"/>
              </a:rPr>
              <a:t>禁灌肠及使用泄剂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ac8de"/>
                </a:solidFill>
                <a:latin typeface="Verdana"/>
              </a:rPr>
              <a:t>禁止活动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4140000" y="1699920"/>
            <a:ext cx="4214520" cy="394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ac8de"/>
                </a:solidFill>
                <a:latin typeface="Verdana"/>
              </a:rPr>
              <a:t>抗休克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ac8de"/>
                </a:solidFill>
                <a:latin typeface="Verdana"/>
              </a:rPr>
              <a:t>抗感染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ac8de"/>
                </a:solidFill>
                <a:latin typeface="Verdana"/>
              </a:rPr>
              <a:t>抗水、电解质和酸碱失衡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ac8de"/>
                </a:solidFill>
                <a:latin typeface="Verdana"/>
              </a:rPr>
              <a:t>抗腹胀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6" name="日期占位符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B8A87-9DDE-4392-9534-187E103E069B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7" name="灯片编号占位符 7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E2AAF-C527-431A-B83B-9F5527C67168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000"/>
                </a:solidFill>
                <a:latin typeface="Verdana"/>
                <a:ea typeface="宋体"/>
              </a:rPr>
              <a:t>减轻疼痛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非休克患者取半卧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禁食和胃肠减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解痉和镇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0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60E69-125A-4737-8F69-71745CB62F41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1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AFB9A-4C93-48A2-B613-949095448383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二、肝功能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精神状态及意识状态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黄疸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血清酶学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凝血功能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5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血清蛋白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6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血氨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4" name="标题 1"/>
          <p:cNvSpPr/>
          <p:nvPr/>
        </p:nvSpPr>
        <p:spPr>
          <a:xfrm>
            <a:off x="990720" y="457200"/>
            <a:ext cx="807696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一）血清蛋白测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总蛋白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TP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正常值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6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80g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白蛋白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A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5g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球蛋白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G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0g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白蛋白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A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/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球蛋白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G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∶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意义：慢性肝炎、肝硬化时常出现白蛋白减少而球蛋白增加，使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A/G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比例倒置。白蛋白主要在肝中制造，一般白蛋白量越多，人体越健康，影响机体的胶体渗透压水平。球蛋白大部分在肝细胞外生成，球蛋白与人体的免疫力有关系，球蛋白要保持一定的量，球蛋白值偏高说明体内存在免疫系统的亢进，偏低说明免疫力不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178920" y="112500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二）胆红素测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总胆红素的正常值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7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7.1μmol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0mg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，直接胆红素的正常值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7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7μmol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mg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，间接胆红素的正常值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7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3.7μmol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意义：主要用于诊断肝疾病和胆道梗阻。当肝发生炎症、坏死、中毒等损害均可以引起黄疸，胆道疾病及溶血性疾病也可以引起黄疸。以直接胆红素升高为主常见于原发性胆汁型肝硬化、胆道梗阻等。以间接胆红素升高为主常见于溶血性疾病、新生儿黄疸或者输血错误等。肝炎与肝硬化患者的直接胆红素与间接胆红素都可以升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二）胆红素测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特别说明：一般来说小于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4μmol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的黄疸，视诊不易察出，称为隐性黄疸；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70μmol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为轻度黄疸；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7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40μmol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为中度黄疸；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40μmol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为高度黄疸。完全阻塞性黄疸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4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510μmol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；不完全阻塞者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7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65μmol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；肝细胞性黄疸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7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00μmol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；溶血性黄疸＜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85μmol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304920" y="1371600"/>
            <a:ext cx="8610480" cy="47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三）血清酶学测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5280" indent="-305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77" name="Picture 3" descr=""/>
          <p:cNvPicPr/>
          <p:nvPr/>
        </p:nvPicPr>
        <p:blipFill>
          <a:blip r:embed="rId1"/>
          <a:stretch/>
        </p:blipFill>
        <p:spPr>
          <a:xfrm>
            <a:off x="324000" y="1844640"/>
            <a:ext cx="8569080" cy="44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四）血氨的测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血氨正常值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60μmol/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临床意义：血氨值偏高可能影响肝病患者肝昏迷的发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消化系统的主要生理功能是摄取和消化食物、吸收营养和排泄废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以肝性脑病为例讲授重症消化患者护理评估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--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重点内容之一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急性重症胰腺炎患者重症监护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--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重点内容之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三、营养支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一）目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通过营养素的调理作用，调节免疫功能，增强机体抗病能力，从而影响疾病的发展与转归，这是实现危重症患者营养支持的总目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二）营养状态的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营养评估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通过人体测量、实验室检查及综合营养评定方法等手段，判定人体营养状况，确定营养不良的程度及类型，并监测营养支持疗效的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三、营养支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皮褶厚度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可推断全身脂肪含量、判断皮下脂肪发育情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测定部位主要有上臂肱三头肌、肩胛下角部及腹部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临床上常用肱三头肌皮褶厚度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SF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测定：在右上臂后面肩峰与鹰嘴连线的中点，夹取与上肢长轴平行的皮褶，纵向测量。正常参考值男性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2.5mm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，女性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6.5mm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。实测值在正常值的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9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％以上为正常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8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％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9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％为体脂轻度亏损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6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％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8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％为中度亏损，＜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6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％为重度亏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三、营养支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上臂肌围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AMC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：间接反映机体内蛋白质储存情况，与血清白蛋白水平相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AMC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m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=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上臂围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m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－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4×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肱三头肌皮褶厚度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m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上臂肌围参考值男性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4.8cm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，女性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1.0cm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。实测值在参考值的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9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％以上为正常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8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％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9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％为轻度营养不良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6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％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8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％为中度，小于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6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％为重度。测量上臂围时，被测者上臂自然下垂，取上臂中点，用软尺测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实验室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氮平衡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血清白蛋白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rum albumi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ALB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：持续低白蛋白血症被认为是判定营养不良的可靠指标。正常参考范围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45g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，若＜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5g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为营养不良，＜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0g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则为重度营养不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转铁蛋白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ransferri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RF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：评定蛋白质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-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热量营养不良时更为敏感。正常参考范围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.2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4.0g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.5g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属于中度营养不良，小于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g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为严重营养不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304920" y="1371240"/>
            <a:ext cx="8610480" cy="52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实验室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氮平衡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肌酐身高指数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HI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氮平衡（</a:t>
            </a:r>
            <a:r>
              <a:rPr b="1" lang="en-US" sz="2800" spc="-1" strike="noStrike" u="sng">
                <a:solidFill>
                  <a:srgbClr val="ddb523"/>
                </a:solidFill>
                <a:uFillTx/>
                <a:latin typeface="Verdana"/>
                <a:hlinkClick r:id="rId1"/>
              </a:rPr>
              <a:t>nitrogen balanc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NB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：评定机体蛋白质营养状况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</a:rPr>
              <a:t>最可靠和最常用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的指标。一般食物的蛋白质中氮的平均含量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6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％。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NB =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蛋白质摄入量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g/d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/6.2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－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[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尿中尿素氮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g/d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＋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g/d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]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，其中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g/d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为人体每天通过呼吸道、粪便、汗液及尿中其他形式排出的氮。若氮摄入量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=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氮排出量为氮平衡，氮摄入量＞氮排出量为正氮平衡，氮摄入量＜氮排出量为负氮平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实验室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免疫功能评定：危重症患者中蛋白质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-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热量营养不良者，常伴有细胞免疫功能减低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总淋巴细胞计数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LC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：是目前评定细胞免疫功能的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</a:rPr>
              <a:t>简易方法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。若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LC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0×10</a:t>
            </a:r>
            <a:r>
              <a:rPr b="1" lang="en-US" sz="2800" spc="-1" strike="noStrike" baseline="30000">
                <a:solidFill>
                  <a:srgbClr val="8ac8de"/>
                </a:solidFill>
                <a:latin typeface="Verdana"/>
              </a:rPr>
              <a:t>8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者为正常，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2-2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×10</a:t>
            </a:r>
            <a:r>
              <a:rPr b="1" lang="en-US" sz="2800" spc="-1" strike="noStrike" baseline="30000">
                <a:solidFill>
                  <a:srgbClr val="8ac8de"/>
                </a:solidFill>
                <a:latin typeface="Verdana"/>
              </a:rPr>
              <a:t>8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者为轻度营养不良，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8-1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×10</a:t>
            </a:r>
            <a:r>
              <a:rPr b="1" lang="en-US" sz="2800" spc="-1" strike="noStrike" baseline="30000">
                <a:solidFill>
                  <a:srgbClr val="8ac8de"/>
                </a:solidFill>
                <a:latin typeface="Verdana"/>
              </a:rPr>
              <a:t>8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者为中度营养不良，＜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8×10</a:t>
            </a:r>
            <a:r>
              <a:rPr b="1" lang="en-US" sz="2800" spc="-1" strike="noStrike" baseline="30000">
                <a:solidFill>
                  <a:srgbClr val="8ac8de"/>
                </a:solidFill>
                <a:latin typeface="Verdana"/>
              </a:rPr>
              <a:t>8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者为重度营养不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皮肤迟发型超敏反应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DH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304920" y="1371240"/>
            <a:ext cx="8610480" cy="61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综合营养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02" name="Picture 2" descr=""/>
          <p:cNvPicPr/>
          <p:nvPr/>
        </p:nvPicPr>
        <p:blipFill>
          <a:blip r:embed="rId1"/>
          <a:stretch/>
        </p:blipFill>
        <p:spPr>
          <a:xfrm>
            <a:off x="684360" y="1989000"/>
            <a:ext cx="778500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三）危重症患者的营养支持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重症患者常合并代谢紊乱与营养不良，需要给予营养支持；且应尽早开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计算机体能量消耗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8ac8de"/>
                </a:solidFill>
                <a:uFillTx/>
                <a:latin typeface="宋体"/>
                <a:ea typeface="宋体"/>
              </a:rPr>
              <a:t>（</a:t>
            </a:r>
            <a:r>
              <a:rPr b="1" lang="en-US" sz="2800" spc="-1" strike="noStrike" u="sng">
                <a:solidFill>
                  <a:srgbClr val="8ac8de"/>
                </a:solidFill>
                <a:uFillTx/>
                <a:latin typeface="宋体"/>
                <a:ea typeface="宋体"/>
              </a:rPr>
              <a:t>1</a:t>
            </a:r>
            <a:r>
              <a:rPr b="1" lang="zh-CN" sz="2800" spc="-1" strike="noStrike" u="sng">
                <a:solidFill>
                  <a:srgbClr val="8ac8de"/>
                </a:solidFill>
                <a:uFillTx/>
                <a:latin typeface="宋体"/>
                <a:ea typeface="宋体"/>
              </a:rPr>
              <a:t>）基础热量消耗（</a:t>
            </a:r>
            <a:r>
              <a:rPr b="1" lang="en-US" sz="2800" spc="-1" strike="noStrike" u="sng">
                <a:solidFill>
                  <a:srgbClr val="8ac8de"/>
                </a:solidFill>
                <a:uFillTx/>
                <a:latin typeface="宋体"/>
                <a:ea typeface="宋体"/>
              </a:rPr>
              <a:t>basal energy expenditure</a:t>
            </a:r>
            <a:r>
              <a:rPr b="1" lang="zh-CN" sz="2800" spc="-1" strike="noStrike" u="sng">
                <a:solidFill>
                  <a:srgbClr val="8ac8de"/>
                </a:solidFill>
                <a:uFillTx/>
                <a:latin typeface="宋体"/>
                <a:ea typeface="宋体"/>
              </a:rPr>
              <a:t>，</a:t>
            </a:r>
            <a:r>
              <a:rPr b="1" lang="en-US" sz="2800" spc="-1" strike="noStrike" u="sng">
                <a:solidFill>
                  <a:srgbClr val="8ac8de"/>
                </a:solidFill>
                <a:uFillTx/>
                <a:latin typeface="宋体"/>
                <a:ea typeface="宋体"/>
              </a:rPr>
              <a:t>BEE</a:t>
            </a:r>
            <a:r>
              <a:rPr b="1" lang="zh-CN" sz="2800" spc="-1" strike="noStrike" u="sng">
                <a:solidFill>
                  <a:srgbClr val="8ac8de"/>
                </a:solidFill>
                <a:uFillTx/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男性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BEE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Kcal/d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=66.4+13.7×W+5.0×H-6.8×A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女性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BEE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Kcal/d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=66.5+9.6×W+1.8×H-4.7×A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三）危重症患者的营养支持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静息能量消耗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REE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：餐后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h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以上，合适温度下，安静平卧或静坐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0min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以上所测得的人体能量消耗。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REE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较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BEE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高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0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％左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男性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REE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Kcal/d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=5.48×H +11.51×W-3.47×A-189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女性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REE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Kcal/d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=2.95×H +8.73×W-1.94×A+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52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三）危重症患者的营养支持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．计算总能量需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公式计算法：在活动、应激和发热时，危重症患者，公式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TEE=BEE×AF×IF×TF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计算得出，其中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AF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为活动系数，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IF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为应激系数，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TF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为体温系数，以正常体温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7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℃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的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TF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为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.0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，体温每增加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℃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，系数增加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0.1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。活动系数和应激系数见教材（表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8-4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和表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8-5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826920" y="1699920"/>
            <a:ext cx="7772400" cy="2508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ac8de"/>
                </a:solidFill>
                <a:latin typeface="Verdana"/>
              </a:rPr>
              <a:t>第二节   临床监护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简易估算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总能量可以按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0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0 kcal/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kg·d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计算，但不超过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5kcal/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kg·d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重症患者急性应激期营养支持应掌握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“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允许性低热卡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”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原则，能量补充不宜超过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5kcal/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kg·d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在应激与代谢状态稳定后能量供给需要适当的增加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0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5kcal/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kg·d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，否则将难以纠正患者的低蛋白血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．确定各种营养物质的供给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非蛋白供能物质：以碳水化合物、脂肪共同供能为首选。碳水化合物与脂肪热量比可为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∶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∶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。碳水化合物的供给量不宜超过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00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400g/d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，而脂肪乳剂所提供的脂肪量，通常每日不宜超过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.5g/kg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蛋白质：正常情况下，足够的蛋白质供给为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.2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.0g/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kg·d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。危重症患者热氮比为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00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50kcal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∶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g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。在严重应激下，尤其是对重症肺炎，热氮比应适当降至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80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30kcal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∶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g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324000" y="1197000"/>
            <a:ext cx="86104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．确定各种营养物质的供给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水及电解质：可按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0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40ml/kg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估计液体的需要量，再加上丢失量，即为液体补充量；体温升高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℃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以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7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℃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为基础体温）时，需增加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00ml/d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的入量。正常成年人电解质日需要量分别为：钠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00-120mmol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即氯化钠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5.8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7.0g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，钾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80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20mmol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即氯化钾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6.0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9.0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，钙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8-10mmol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即葡萄糖酸钙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.6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4.5g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，镁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2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5mmol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即硫酸镁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.0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.7g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微量营养素：包括水溶性维生素、脂溶性维生素和必需微量元素。目前药品市场上复合性多种维生素和微量元素制剂较多，使用方便、安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确定营养支持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肠外营养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parenteral nutritio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P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肠内营养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enteral nutritio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E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两种方法共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肠外营养输注途径与方式，周围静脉或中心静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.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肠外、肠内营养支持与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适应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途径选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营养液配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输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并发症及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/>
          </p:nvPr>
        </p:nvSpPr>
        <p:spPr>
          <a:xfrm>
            <a:off x="468360" y="2204640"/>
            <a:ext cx="827568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ac8de"/>
                </a:solidFill>
                <a:latin typeface="Verdana"/>
                <a:ea typeface="宋体"/>
              </a:rPr>
              <a:t>第三节  急性重症胰腺炎患者的护理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急性胰腺炎伴有脏器功能障碍，或出现坏死、脓肿或假性囊肿等局部并发症者，或两者兼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常见腹部体征有上腹部明显的压痛、反跳痛、肌紧张、腹胀、肠鸣音减弱或消失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腹部包块，偶见腰肋部皮下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淤斑征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Grey-Tumer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征）和脐周皮下淤斑征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Cullen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征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可并发一个或多个脏器功能障碍，或严重代谢功能紊乱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增强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CT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为诊断胰腺坏死的最有效方法，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B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超及腹腔穿刺对诊断有一定帮助。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APACHE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Ⅱ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评分≥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8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分。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Balthazar CT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分级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系统≥Ⅱ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急性重症胰腺炎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AP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的诊断标准为：有急性胰腺炎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AP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的临床表现和生化改变，且具备下列条件之一者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①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局部并发症（胰腺坏死、脓肿或假性囊肿等）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②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一个或多个器官衰竭，可伴有严重的代谢功能紊乱，包括低钙血症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③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Ranson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评分≥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④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APACH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Ⅱ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评分≥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8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⑤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Balthazar CT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分级≥Ⅱ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案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患者，男性，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4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主诉：上腹部疼痛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d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，加重伴恶心呕吐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h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现病史：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d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前患者因朋友聚会，共饮白酒约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50ml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，于夜间出现上腹部疼痛，持续性伴阵发性加剧，伴后腰部放散痛，自服止痛药效果不明显，屈膝侧卧位疼痛略缓解。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h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前腹痛加重，伴恶心、呕吐，呕吐物为胃内容物，并有发热，体温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7.8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℃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，无寒战。于我院门诊急检尿淀粉酶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000IU/L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，血淀粉酶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00IU/L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，为求进一步诊治入院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既往史：否认糖尿病、高血压病史及家族史，否认肝炎及结核病史，无药物过敏史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案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体格检查：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T 36.8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℃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，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P 84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次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分，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R 16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次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分，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BP 120/80mmHg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。神清语明，皮肤黏膜未见异常，浅表淋巴结未触及肿大。双肺呼吸音清晰，未闻及干湿音，心率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84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次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分，节律规整，心脏各瓣膜听诊区未闻及病理性杂音。腹平软，左上腹压痛，无反跳痛及肌紧张，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Murphy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征阴性，肝肋下未触及。双下肢无水肿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辅助检查血常规：白细胞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1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×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0</a:t>
            </a:r>
            <a:r>
              <a:rPr b="1" lang="en-US" sz="2400" spc="-1" strike="noStrike" baseline="30000">
                <a:solidFill>
                  <a:srgbClr val="8ac8de"/>
                </a:solidFill>
                <a:latin typeface="宋体"/>
                <a:ea typeface="宋体"/>
              </a:rPr>
              <a:t>9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/L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，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NE%78%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，红细胞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.28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×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0</a:t>
            </a:r>
            <a:r>
              <a:rPr b="1" lang="en-US" sz="2400" spc="-1" strike="noStrike" baseline="30000">
                <a:solidFill>
                  <a:srgbClr val="8ac8de"/>
                </a:solidFill>
                <a:latin typeface="宋体"/>
                <a:ea typeface="宋体"/>
              </a:rPr>
              <a:t>12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/L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，血小板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20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×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0</a:t>
            </a:r>
            <a:r>
              <a:rPr b="1" lang="en-US" sz="2400" spc="-1" strike="noStrike" baseline="30000">
                <a:solidFill>
                  <a:srgbClr val="8ac8de"/>
                </a:solidFill>
                <a:latin typeface="宋体"/>
                <a:ea typeface="宋体"/>
              </a:rPr>
              <a:t>9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/L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，钾离子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.1mmol/L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，钙离子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0mmol/L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，血糖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0.1mmol/L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请问应如何对该患者进行评估与护理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10940-7E57-41AD-8041-6FABBB08018C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2858B-B220-4495-9B13-53CAC85BB5E8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43" name="组合 20"/>
          <p:cNvGrpSpPr/>
          <p:nvPr/>
        </p:nvGrpSpPr>
        <p:grpSpPr>
          <a:xfrm>
            <a:off x="539640" y="1413000"/>
            <a:ext cx="8064720" cy="4319640"/>
            <a:chOff x="539640" y="1413000"/>
            <a:chExt cx="8064720" cy="4319640"/>
          </a:xfrm>
        </p:grpSpPr>
        <p:pic>
          <p:nvPicPr>
            <p:cNvPr id="144" name="矩形 9" descr=""/>
            <p:cNvPicPr/>
            <p:nvPr/>
          </p:nvPicPr>
          <p:blipFill>
            <a:blip r:embed="rId1"/>
            <a:stretch/>
          </p:blipFill>
          <p:spPr>
            <a:xfrm>
              <a:off x="539640" y="1413000"/>
              <a:ext cx="1831320" cy="431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矩形 10"/>
            <p:cNvSpPr/>
            <p:nvPr/>
          </p:nvSpPr>
          <p:spPr>
            <a:xfrm>
              <a:off x="3142440" y="1429560"/>
              <a:ext cx="5461920" cy="1000440"/>
            </a:xfrm>
            <a:prstGeom prst="rect">
              <a:avLst/>
            </a:prstGeom>
            <a:solidFill>
              <a:srgbClr val="8ac8de"/>
            </a:solidFill>
            <a:ln w="25560">
              <a:solidFill>
                <a:srgbClr val="6492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99669b"/>
                  </a:solidFill>
                  <a:latin typeface="Verdana"/>
                </a:rPr>
                <a:t>患者及家属：</a:t>
              </a:r>
              <a:r>
                <a:rPr b="0" lang="zh-CN" sz="3200" spc="-1" strike="noStrike">
                  <a:solidFill>
                    <a:srgbClr val="ff0000"/>
                  </a:solidFill>
                  <a:latin typeface="Verdana"/>
                </a:rPr>
                <a:t>病史、</a:t>
              </a:r>
              <a:r>
                <a:rPr b="0" lang="zh-CN" sz="3200" spc="-1" strike="noStrike">
                  <a:solidFill>
                    <a:srgbClr val="99669b"/>
                  </a:solidFill>
                  <a:latin typeface="Verdana"/>
                </a:rPr>
                <a:t>心理社会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6" name="矩形 11"/>
            <p:cNvSpPr/>
            <p:nvPr/>
          </p:nvSpPr>
          <p:spPr>
            <a:xfrm>
              <a:off x="3142440" y="3002040"/>
              <a:ext cx="5461920" cy="1071360"/>
            </a:xfrm>
            <a:prstGeom prst="rect">
              <a:avLst/>
            </a:prstGeom>
            <a:solidFill>
              <a:srgbClr val="8ac8de"/>
            </a:solidFill>
            <a:ln w="25560">
              <a:solidFill>
                <a:srgbClr val="6492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99669b"/>
                  </a:solidFill>
                  <a:latin typeface="Verdana"/>
                </a:rPr>
                <a:t>患者：主诉、</a:t>
              </a:r>
              <a:r>
                <a:rPr b="0" lang="zh-CN" sz="3200" spc="-1" strike="noStrike">
                  <a:solidFill>
                    <a:srgbClr val="ff0000"/>
                  </a:solidFill>
                  <a:latin typeface="Verdana"/>
                </a:rPr>
                <a:t>体格检查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7" name="矩形 12"/>
            <p:cNvSpPr/>
            <p:nvPr/>
          </p:nvSpPr>
          <p:spPr>
            <a:xfrm>
              <a:off x="3142440" y="4716360"/>
              <a:ext cx="5461920" cy="1000440"/>
            </a:xfrm>
            <a:prstGeom prst="rect">
              <a:avLst/>
            </a:prstGeom>
            <a:solidFill>
              <a:srgbClr val="8ac8de"/>
            </a:solidFill>
            <a:ln w="25560">
              <a:solidFill>
                <a:srgbClr val="6492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99669b"/>
                  </a:solidFill>
                  <a:latin typeface="Verdana"/>
                </a:rPr>
                <a:t>临床症状、体征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8" name="左箭头 13"/>
            <p:cNvSpPr/>
            <p:nvPr/>
          </p:nvSpPr>
          <p:spPr>
            <a:xfrm>
              <a:off x="2423160" y="1787400"/>
              <a:ext cx="648000" cy="285120"/>
            </a:xfrm>
            <a:prstGeom prst="leftArrow">
              <a:avLst>
                <a:gd name="adj1" fmla="val 50000"/>
                <a:gd name="adj2" fmla="val 50294"/>
              </a:avLst>
            </a:prstGeom>
            <a:solidFill>
              <a:srgbClr val="8ac8de"/>
            </a:solidFill>
            <a:ln w="25560">
              <a:solidFill>
                <a:srgbClr val="6492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9" name="左箭头 16"/>
            <p:cNvSpPr/>
            <p:nvPr/>
          </p:nvSpPr>
          <p:spPr>
            <a:xfrm>
              <a:off x="2423160" y="3430800"/>
              <a:ext cx="648000" cy="285120"/>
            </a:xfrm>
            <a:prstGeom prst="leftArrow">
              <a:avLst>
                <a:gd name="adj1" fmla="val 50000"/>
                <a:gd name="adj2" fmla="val 50294"/>
              </a:avLst>
            </a:prstGeom>
            <a:solidFill>
              <a:srgbClr val="8ac8de"/>
            </a:solidFill>
            <a:ln w="25560">
              <a:solidFill>
                <a:srgbClr val="6492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0" name="左箭头 17"/>
            <p:cNvSpPr/>
            <p:nvPr/>
          </p:nvSpPr>
          <p:spPr>
            <a:xfrm>
              <a:off x="2423160" y="5073840"/>
              <a:ext cx="648000" cy="285120"/>
            </a:xfrm>
            <a:prstGeom prst="leftArrow">
              <a:avLst>
                <a:gd name="adj1" fmla="val 50000"/>
                <a:gd name="adj2" fmla="val 50294"/>
              </a:avLst>
            </a:prstGeom>
            <a:solidFill>
              <a:srgbClr val="8ac8de"/>
            </a:solidFill>
            <a:ln w="25560">
              <a:solidFill>
                <a:srgbClr val="6492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一）临床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腹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恶心、呕吐及腹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发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水、电解质及酸碱平衡紊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低血压和休克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6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Grey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－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urner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征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ulle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304560" y="13712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7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．并发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急性液体积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急性胰腺假性囊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胰腺脓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胰腺及胰周组织坏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急性呼吸窘迫综合征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ARDS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其他：急性肾衰竭、心律失常或心力衰竭、肝功能衰竭、消化道出血、败血症、胰性脑病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DIC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二）辅助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．实验室检查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白细胞计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血清脂肪酶测定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血清脂肪酶常在起病后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4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72h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开始上升，持续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7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0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天，对病后就诊较晚的急性胰腺炎患者有诊断价值，且特异性也较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淀粉酶测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注：诊断中应注意淀粉酶的高低不一定反映病情轻重，出血坏死型胰腺炎淀粉酶值可正常或低于正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C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反应蛋白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CRP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二）辅助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其他生化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．影像学检查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腹部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X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线：急性期可见“哨兵袢”和“结肠切割征”，是胰腺炎的间接指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腹部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B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超：可以观察胰腺形态及有无胆道结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腹部增强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CT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：是近年来被广泛接受的敏感确诊急性胰腺炎的方法。在口服或静脉注射增强造影剂后，可以得到清晰的胰腺图像，是诊断胰腺坏死的金标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三）与疾病相关的健康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四）心理社会状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五）治疗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一般采取非手术治疗以维护器官功能，感染性坏死采用手术治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病因治疗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胆源性：有胆道梗阻者及时解除梗阻。若无胆道梗阻者先行非手术治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高血脂性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酒精性：禁食和胃肠减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抑制胰酶分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①禁食和胃肠减压；②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AP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早期静脉滴注抑肽酶、加贝酯；③应用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H</a:t>
            </a:r>
            <a:r>
              <a:rPr b="1" lang="en-US" sz="2800" spc="-1" strike="noStrike" baseline="-25000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受体拮抗剂或质子泵抑制剂；④应用生长抑素及其衍生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抗生素应用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选用对肠道异位细菌敏感且对胰腺有较好渗透性的抗生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纠正水、电解质紊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营养支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AP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患者早期条件允许即给予营养支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6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并发症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7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中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8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腹腔灌洗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适用于出血坏死型胰腺炎伴大量腹腔渗液者，可清除胰腺渗出物和释放的胰酶等有毒物质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9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手术治疗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急性出血坏死性胰腺炎经内科治疗无效，或胰腺炎并发脓肿、假性囊肿、弥漫性腹膜炎、肠穿孔、肠梗阻及肠麻痹坏死时，需行手术治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b0f0"/>
                </a:solidFill>
                <a:latin typeface="方正舒体"/>
                <a:ea typeface="方正舒体"/>
              </a:rPr>
              <a:t>护理诊断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00"/>
              </a:spcBef>
              <a:buClr>
                <a:srgbClr val="ddb523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疼痛   与胰腺及其周围组织炎症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19040" indent="-382680">
              <a:spcBef>
                <a:spcPts val="700"/>
              </a:spcBef>
              <a:buClr>
                <a:srgbClr val="ddb523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体液不足  与体液外渗及血管扩张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19040" indent="-382680">
              <a:spcBef>
                <a:spcPts val="700"/>
              </a:spcBef>
              <a:buClr>
                <a:srgbClr val="ddb523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体温过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19040" indent="-382680">
              <a:spcBef>
                <a:spcPts val="700"/>
              </a:spcBef>
              <a:buClr>
                <a:srgbClr val="ddb523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营养失调  低于机体需要量，与禁食、呕吐、胃肠减压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19040" indent="-382680">
              <a:spcBef>
                <a:spcPts val="700"/>
              </a:spcBef>
              <a:buClr>
                <a:srgbClr val="ddb523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组织灌注不足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与胰腺出血坏死，腹腔、腹膜后大量渗液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19040" indent="-382680">
              <a:spcBef>
                <a:spcPts val="700"/>
              </a:spcBef>
              <a:buClr>
                <a:srgbClr val="ddb523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恐惧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与腹痛剧烈及病情进展急骤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19040" indent="-382680">
              <a:spcBef>
                <a:spcPts val="700"/>
              </a:spcBef>
              <a:buClr>
                <a:srgbClr val="ddb523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潜在并发症：休克、急性肾衰竭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ARDS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胰性脑病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DIC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心力衰竭、感染和出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7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DE1BE-B067-4C5B-887A-653493457F79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8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DB861-5B74-4804-BBA3-7B17EE78DB33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1.</a:t>
            </a: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一般护理措施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禁食、胃肠减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遵医嘱给予镇痛药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预防和迅速纠正休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营养支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严密监测患者的体温变化，必要时给予物理降温或药物降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基础护理：保持患者清洁，协助调整体位，及时清除排泄物及渗出液，做好患者的皮肤保护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1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D9206-BADB-4DFB-9D25-1B1604995EC1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2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F2F09-6CE5-4E0F-B43D-8B298BE08CE5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病史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日常生活习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患病的起始情况、主要症状及其特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既往检查、治疗经过及效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既往疾病史及药物史、心理社会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212BD-6E93-4D82-BCB9-21B5C79BA391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E298D-AF14-4A1E-B73E-966528C69ED9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2.</a:t>
            </a: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急性反应期的监测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456840" y="1600200"/>
            <a:ext cx="8147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84569"/>
                </a:solidFill>
                <a:latin typeface="Verdana"/>
                <a:ea typeface="宋体"/>
              </a:rPr>
              <a:t>基本生命体征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：神智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HR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RR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BP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PO</a:t>
            </a:r>
            <a:r>
              <a:rPr b="1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84569"/>
                </a:solidFill>
                <a:latin typeface="Verdana"/>
                <a:ea typeface="宋体"/>
              </a:rPr>
              <a:t>循环监测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：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BP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VP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尿量、皮肤黏膜、肢端循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84569"/>
                </a:solidFill>
                <a:latin typeface="Verdana"/>
                <a:ea typeface="宋体"/>
              </a:rPr>
              <a:t>呼吸监测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：呼吸频率、状态、肺部听诊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FiO</a:t>
            </a:r>
            <a:r>
              <a:rPr b="1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PO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2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血气分析、胸部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X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84569"/>
                </a:solidFill>
                <a:latin typeface="Verdana"/>
                <a:ea typeface="宋体"/>
              </a:rPr>
              <a:t>消化监测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：营养状况、黄疸、腹部体征（外观、腹膜刺激征、腹水、腹压）、胃肠功能（肠鸣、胃液、大便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84569"/>
                </a:solidFill>
                <a:latin typeface="Verdana"/>
                <a:ea typeface="宋体"/>
              </a:rPr>
              <a:t>其他器官功能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：肾功、肝功、血糖、血尿淀粉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84569"/>
                </a:solidFill>
                <a:latin typeface="Verdana"/>
                <a:ea typeface="宋体"/>
              </a:rPr>
              <a:t>辅助检查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：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X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线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B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超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T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其他实验室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5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45F1C-5EC6-49AD-B77A-E721095E08EB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6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13232-53BB-4200-BF46-69D66607D863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3.</a:t>
            </a: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血糖监护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严密监测血糖及与血糖改变相关的症状和体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若在排除休克的情况下患者出现出冷汗、旋晕、意识水平下降等，应考虑低血糖反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血糖浓度居高不下或波动太大，最好能每小时监测血糖，根据血糖水平调整外源性胰岛素补充的量及速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9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89FD9-B009-4BBB-9CF8-E4925176842B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0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F66DF-DD9C-4A6C-B0FA-F3FE8FAFC940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4.1 </a:t>
            </a: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感染的控制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0" y="126792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患者应安置于一个环境清洁、相对隔离的单间，保持室内合适的温度及湿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监测患者的体温，高热患者应每小时监测体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监测气道分泌物、尿液、腹腔引流液的性状、气味、颜色及细菌学检查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保持各种引流管道通畅，做好各种管道护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保持引流口及伤口无菌，敷料清洁、干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3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59ACF-0940-43EF-A3F8-876CC01EA86C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4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74C87-EF2C-4932-B2D7-F003A7303AB5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4.2</a:t>
            </a: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感染的控制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142920" y="1071360"/>
            <a:ext cx="925344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进行各种侵入性操作时应严格遵循无菌原则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做好人工气道护理，合理进行人工气道湿化及胸部理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积极治疗各种感染病灶，包括褥疮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改善患者营养，增强机体抵抗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根据药物敏感试验合理使用抗生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7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15F5F-9BA8-4AC7-AEE8-6E066843EFD2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8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320B0-C8A4-4FF4-BD18-A82DF62843B4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5.1</a:t>
            </a: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管道护理</a:t>
            </a:r>
            <a:r>
              <a:rPr b="0" lang="en-US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:SAP</a:t>
            </a: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常见管道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56840" y="1600200"/>
            <a:ext cx="8147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胃管、鼻肠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尿管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气管插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中心静脉置管、血透用股静脉置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腹腔引流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肛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1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7007E-AB3A-4CF9-ADA2-4F33DBA9EFF2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2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77A9D-6BA3-46FF-9A25-0E204C2EC844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明确标记 ：名称、更换日期，记录长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妥善固定，尤其翻身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保持引流通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保持密闭，严格无菌操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局部皮肤的护理，及时更换敷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准确记录引流物的量及性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4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01099-B857-471F-B8FD-AE99A6F390B1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5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8660C-D10B-48DA-AE18-0E30A49B1E9D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5.2</a:t>
            </a: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管道护理</a:t>
            </a:r>
            <a:r>
              <a:rPr b="0" lang="en-US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:SAP</a:t>
            </a: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常见管道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5c8c"/>
                </a:solidFill>
                <a:latin typeface="Verdana"/>
              </a:rPr>
              <a:t>防移位和滑脱：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记录导管插入深度，在鼻翼和同侧面颊处用宽胶布双固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5c8c"/>
                </a:solidFill>
                <a:latin typeface="Verdana"/>
              </a:rPr>
              <a:t>防堵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每次灌注营养液前后均用温水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0m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冲洗管道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持续输注者应当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6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8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小时冲洗管道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黑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次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未使用者至少每天冲洗管道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黑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8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7B1D2-CF23-4E43-9AE7-58EAF849B7A5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9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AF948-63A3-4F05-ADB7-226A0214F60A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0" name="标题 1"/>
          <p:cNvSpPr/>
          <p:nvPr/>
        </p:nvSpPr>
        <p:spPr>
          <a:xfrm>
            <a:off x="990720" y="457200"/>
            <a:ext cx="807696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5.3</a:t>
            </a: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管道护理</a:t>
            </a:r>
            <a:r>
              <a:rPr b="0" lang="en-US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:</a:t>
            </a: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鼻空肠管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8a5c8c"/>
              </a:solidFill>
              <a:latin typeface="Verdana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250560" y="1600200"/>
            <a:ext cx="871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保持有效的负压引流，负压宜大，以能吸引出腹腔液体、引流管周围无渗出液为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如见坏死组织堵塞管道，应及时挤压维持通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如有血性液引出，应立即减小负压并通知医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</a:rPr>
              <a:t>密切观察冲洗液与引流液在量上的对比及引流液的量、色、性、味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3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73765-B096-4F4A-9091-62BB74458464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4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1192C-9B83-43CE-88D1-7929E616ACE5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5" name="标题 1"/>
          <p:cNvSpPr/>
          <p:nvPr/>
        </p:nvSpPr>
        <p:spPr>
          <a:xfrm>
            <a:off x="990720" y="457200"/>
            <a:ext cx="807696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5.4</a:t>
            </a: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管道护理</a:t>
            </a:r>
            <a:r>
              <a:rPr b="0" lang="en-US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:</a:t>
            </a: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腹腔引流管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6</a:t>
            </a: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皮肤完整性受损的危险因素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局部长期受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腹部渗液浸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造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营养不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8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7D44F-A849-4302-9834-7229C423CEA0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9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0336D-73F4-4750-A93D-C360EAABA5C9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6.1</a:t>
            </a: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皮肤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5c8c"/>
                </a:solidFill>
                <a:latin typeface="Verdana"/>
              </a:rPr>
              <a:t>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加强会阴及肛周的清洁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涂紫草油、鞣酸、皮肤保护膜等进行皮肤保护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留置肛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5c8c"/>
                </a:solidFill>
                <a:latin typeface="Verdana"/>
              </a:rPr>
              <a:t>局部长期受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使用气垫床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定时翻身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水胶体敷料保护受压部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2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CC02E-4574-4197-A7E0-6307F5826367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3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41771-36D8-4F2D-935C-339212DEDFCD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ddb523"/>
                </a:solidFill>
                <a:uFillTx/>
                <a:latin typeface="Verdana"/>
                <a:ea typeface="宋体"/>
                <a:hlinkClick r:id="rId1" action="ppaction://hlinksldjump"/>
              </a:rPr>
              <a:t>体格检查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视诊：营养情况、皮肤黏膜、腹部外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听诊：肠鸣音、血管杂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触诊：腹部紧张度、有无压痛及反跳痛及其发生部位与程度；肝脾、包块及其性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叩诊：实音、鼓音、移动性浊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7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83AC7-BD23-4085-8CDA-65766CEA644B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13684-9AEF-48EC-8570-E426051748F1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6.2</a:t>
            </a: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皮肤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5c8c"/>
                </a:solidFill>
                <a:latin typeface="Verdana"/>
              </a:rPr>
              <a:t>造瘘：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造口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5c8c"/>
                </a:solidFill>
                <a:latin typeface="Verdana"/>
              </a:rPr>
              <a:t>腹部渗液浸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维持腹腔引流管有效的负压吸引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及时更换浸湿的敷料及床单，清洁皮肤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使用皮肤保护膜等隔离措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5c8c"/>
                </a:solidFill>
                <a:latin typeface="Verdana"/>
              </a:rPr>
              <a:t>营养不良：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营养支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6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50B67-A99B-40A5-BBF2-12D7609405C0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7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14EB0-DB38-4638-AB84-A42CC017DBED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19" name="矩形 4" descr=""/>
          <p:cNvPicPr/>
          <p:nvPr/>
        </p:nvPicPr>
        <p:blipFill>
          <a:blip r:embed="rId1"/>
          <a:stretch/>
        </p:blipFill>
        <p:spPr>
          <a:xfrm>
            <a:off x="2371680" y="2762280"/>
            <a:ext cx="4363920" cy="113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4e0ec"/>
                </a:solidFill>
                <a:latin typeface="Verdana"/>
              </a:rPr>
              <a:t>消化系统的常见症状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厌食、恶心呕吐、嗳气与反酸、咽下困难、胸骨或剑突下烧灼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腹胀、腹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腹泻与粪便性状、便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呕血、便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皮肤与巩膜黄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E4033-B6DB-4A33-9582-97AC2B3FBF86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29B19-83E7-455F-82AA-8602C7BD75BD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微软用户</cp:lastModifiedBy>
  <cp:lastPrinted>1899-12-30T00:00:00Z</cp:lastPrinted>
  <dcterms:modified xsi:type="dcterms:W3CDTF">2015-08-30T18:30:58Z</dcterms:modified>
  <cp:revision>87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